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4AF-778C-4A63-93C9-072E0DFA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4EFC-77FD-413A-8ADF-387BE179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D51-7E78-4C93-BA98-285E7491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9C6-345E-422E-B252-07FC4271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291-EA2D-452B-B5C3-41878BEF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E00-FDFB-4959-A0E5-7E91F209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471-F34A-4A77-8831-1BF61CD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879-D3F3-448C-8C11-7749968B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6BD-8119-40F4-AFE2-CDEED4DE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BB9-F3A4-4941-9F68-F0128F7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B5A-9416-4B9A-87E8-A38796DF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3EA-BC10-462C-A3CF-A94EB20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BAF9-2FE0-46A7-82B7-B7689689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line of absolutism Spain in the 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pain had developed an absolutist monarchy but by the 1590’s it was in dec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scal disorder, political incompetence, the lack of a strong middle class, population decline, intellectual isolation, and psychological malaise contributed to its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utch and English began to cut into Spain’s trade monopo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pain’s supply of silver began to decline leading to de-evaluation and bankrupt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Spain had only a tiny middle class – which had to face many obstacles to their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Aristocrats were extravagant and their rents drove the peasants from the 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Philip’s IV’s minister Olivares mistakenly thought that revival of war with the Dutch would solve Spain’s problems; war with France followed – all bringing disaster for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The Treaty of the Pyrenees of 1659, which ended the French-Spanish wars, marked the end of Spain as a great po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The Treaty of the Pyren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uch of Spain’s past had been built on slavery and gold and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vantes’s novel Don Quixote characterizes the impractical dreams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2:35:26Z</dcterms:created>
  <dc:creator>umsd</dc:creator>
  <dc:description/>
  <dc:language>en-US</dc:language>
  <cp:lastModifiedBy>umsd</cp:lastModifiedBy>
  <dcterms:modified xsi:type="dcterms:W3CDTF">2008-12-02T13:00:51Z</dcterms:modified>
  <cp:revision>3</cp:revision>
  <dc:subject/>
  <dc:title>The Decline of absolutism Spain in the 17th Century </dc:title>
</cp:coreProperties>
</file>